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3EE7-D52D-4240-A64B-B287A7054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984F-AB8C-4839-8673-A506A1E40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9360-4B0E-4094-92E9-A08842513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828F-35D3-4A91-AF43-C82CE4566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CD97-691D-4AE0-9F87-04947C396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8479-A4CA-4577-AB1A-3A1F82DF9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7751-8B0D-492B-BF4B-C29097F20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93EE-F1A6-497E-B306-0967B9069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E832-2AE6-4E0B-A906-C31105120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1D2E-2510-4CD0-9335-219D4F74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E05F-D8DF-4098-82A5-CAF51E3E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B1AD-D7EB-4EF9-8585-8EF47621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6073A-A227-455E-BB08-BDE1A2D73E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j0214098.wav" TargetMode="External"/><Relationship Id="rId2" Type="http://schemas.microsoft.com/office/2007/relationships/media" Target="file:///tmp/home/.config/libreoffice/4/user/gallery/j0214098.wav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95280" y="76320"/>
            <a:ext cx="6782040" cy="67816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04920" y="22860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ELCOME TO THE START OF THE 2011 STAR ACADEMIC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YOU CAN EXP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RT/SDM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ar to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he B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ss Odyss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tination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RT/SDM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ford Diagnostic Reading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Diagnostic Mat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pose: Baseline to see exactly where you are 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test:      SDRT 21 June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MT 22 June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 test: 26 July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ossible Outc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      “</a:t>
            </a:r>
            <a:r>
              <a:rPr b="0" i="1" lang="en-US" sz="6000" spc="-1" strike="noStrike">
                <a:solidFill>
                  <a:srgbClr val="ff0000"/>
                </a:solidFill>
                <a:latin typeface="Arial"/>
              </a:rPr>
              <a:t>PROMOTION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191120" y="19051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4745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0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we are we going to get th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 Forward – Cognitive learning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lastic “After the Bell” – Reading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ar to Success – Reading Program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tination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t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ss Odyssey – Reading/Math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ily Sche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8:4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 St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8:45 – 09:00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ouncements/restroom 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9:00 – 10:00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 For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:00 – 11:30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ar to Su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:30 – 12:10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ss Odyssey M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:15 – 12:45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:45 – 01:00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oom 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1:00 – 01:30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1:30 – 03:00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lastic “After the Bell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3:00 – 03:10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3:15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mis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room Guidelin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Arrive to class on time dail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Students are to work in their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mmer School STA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rses that begin with S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Bring a folder daily in which will be used to keep notes on activities or small group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sson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date and skill/activity is to be included at the top of each pag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Bring a writing utensil to class dail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 Notify teacher when they have completed a cours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  Remain on Task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porting Responsibi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Check their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rtfoli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each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ogi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review their scores for the previous da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Repeat any activities containing activity numbers from the previous day in which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y did not achieve a passing score, 70%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Request teacher help when working within the progra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Access backpack at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d of each clas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eacher review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ent Expec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 Room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Respect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s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K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9T18:11:19Z</dcterms:created>
  <dc:creator>j</dc:creator>
  <dc:description/>
  <dc:language>en-US</dc:language>
  <cp:lastModifiedBy>j</cp:lastModifiedBy>
  <dcterms:modified xsi:type="dcterms:W3CDTF">2010-06-19T18:45:36Z</dcterms:modified>
  <cp:revision>3</cp:revision>
  <dc:subject/>
  <dc:title>Slide 1</dc:title>
</cp:coreProperties>
</file>